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4AA-86A6-4DBD-A5EE-AA874998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7AE-08DC-4B1D-9436-06BFDAF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1BC-2342-44A3-BBB6-7412939E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418-1D2D-4220-A812-8F637A1F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8F6-2C3D-4A4D-B3A2-637FE496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6B4-C073-4D5B-9AC7-5748EA1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74B-7EE9-488C-BF0E-E9ED2B3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BBA-0028-4D40-84EC-EDE9FC8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7F1-FEE4-45E3-A645-998A1A8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6F5-6236-41F4-B5E9-7EAEE11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D6C-1CB1-486B-8C9C-295CA95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B8F-F1F6-4136-B043-4710F60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CBCC-D695-4043-9314-E992A295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ps Tell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www.canadamapxl.com/images/canada-road-map.gif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worldatlas.com/webimage/countrys/namerica/canewmapn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map-of-canada.org/canada-map-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map-of-canada.org/canada-relief-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globalforestwatch.org/common/canada/map.1.jpg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iti.gov.nt.ca/tourismparks/fmi/i/permafrost_map%5b1%5d.gif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12.statcan.ca/census-recensement/2006/as-sa/97-550/vignettes/img/map-2006-pop-density-canada-sz01-en.gif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raigmarlatt.com/canada/images/images&amp;downloads/map_climate.jpg"/>
          <p:cNvPicPr/>
          <p:nvPr/>
        </p:nvPicPr>
        <p:blipFill>
          <a:blip r:embed="rId1"/>
          <a:stretch/>
        </p:blipFill>
        <p:spPr>
          <a:xfrm>
            <a:off x="0" y="0"/>
            <a:ext cx="90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statcan.gc.ca/pub/16-002-x/2007001/map/Land-cover-map-of-Canada.gif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4:30:25Z</dcterms:created>
  <dc:creator>gilmore</dc:creator>
  <dc:description/>
  <dc:language>en-US</dc:language>
  <cp:lastModifiedBy>gilmore</cp:lastModifiedBy>
  <dcterms:modified xsi:type="dcterms:W3CDTF">2012-06-22T14:33:43Z</dcterms:modified>
  <cp:revision>1</cp:revision>
  <dc:subject/>
  <dc:title>Canada</dc:title>
</cp:coreProperties>
</file>